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07D4-96E9-4ACC-BDDC-FBCA37072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3C1F-C6B8-4A5D-A301-EAAC539EB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1771-635C-4CD4-B4E6-E17765F09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7F76-BA4C-465E-88B5-34BA0B7F3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A8CD-A002-4719-BDD2-FBFBD9410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C21C-6670-4175-87CB-E4198C97B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26FA-86F3-4F01-826B-0E2FC493C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1719-6D28-43F0-9809-6414D589E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2FED-D809-4CF0-B668-059965649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8F97-B326-4251-9E35-B9CB3D17E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DE5E0E-77DA-418A-9769-50C6820853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904EF2-2305-421E-BFAA-1BC0000CDC9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E5A9F0-2852-47C9-9176-9A3A45DCF74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BE070-2F82-4E1F-8789-DBFB017367B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9F2BB7-3BA5-4F98-A7CF-E84605EF34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160A7-37D8-4F00-AD4B-EC6C3E5D8F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8786A-5B33-42A1-A4AF-663CBE8B4F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11B09A-3D34-4C15-A29B-DCEDAF5806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E933AF-6856-4B50-AE88-0320080B46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5E64F4-E71A-4E7E-BAF0-994F9E9EB7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EA8155-4767-4E68-9602-C926A5F291D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C1623CD-8716-4A68-8024-0D8210A639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B7507F-A285-4F7D-9A9B-473655E07BE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9D6AB01-C21A-4652-ADB9-AFE019948C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EED654C-EF4C-433A-83DC-B63C79CFA8B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0998189-9D91-4B23-B10D-5D638B2CEC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E831CC9-5368-4FC3-BF74-1E88EBDDBE9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4ED468D-7717-41B7-B818-67D3899AFD4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051B37-DE3F-4920-AE2A-AEA6E07A820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1CB50E-96CB-4663-91B3-E44A2D0D531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D72FD40-C0CC-4BB5-9231-B47DDAE71C9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243D086-ED93-4F51-BBDD-DB9D0F06454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F5699E4-BA6E-4884-B413-58FE3F3950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84363A-EE0E-4F92-8136-794AAB7A1A3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834D3DE-A1D2-48FE-9A7F-8555FF981B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4E41457-8461-482C-90CA-2078D001EC9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88623D9-3DB0-44C0-BD56-141FF3951E9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F421574-30A5-4D2C-83C2-663FF69307C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E813DE-4EE0-43E9-A32D-4E7C5DDA72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EF7E475-1EA1-43DD-9930-BA753609A40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F6BD695-A826-4158-8EDA-34AE61FAE1A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5F51FE0-D8B3-4C1B-84FF-C4946DE6CF4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A81D7B8-3980-4999-848E-34741264461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4B08F6-6237-4B5D-8721-DF248C6A5D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D95FC2-E187-4A2D-BD07-42AD9B34E9E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5F9BC3A-F44D-442E-A00A-753DD4139AF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1B38628-6E22-49D1-98F6-70C22E2426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A669E44-5B1D-4D77-92A2-7DC39621F24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9B48D7-0A84-4263-8E3A-1D5B6844AC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A0AF7-15EC-4B78-93B8-549B6AB7C5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CF75E5-222B-4B6A-9257-057998CD51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7C4346-07B9-4F4E-9698-7126308AB0F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301530-AAAB-4B4E-B551-A6DEF56E7D5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C82921-8B84-48C3-A920-CC77795F8D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CC1BF-94AC-420B-AB83-89C6DC5085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33153F-2680-4105-B2E8-A2830784D00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0AE385-9384-43D4-9808-63E95D0B2F2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29196D-A5BC-4553-9F0B-0255B7ED155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7D24F-B72D-44C8-BED1-CFC0677FA7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C62B10-F614-441D-8981-2CAEC873607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AAEA6D-EEFF-4638-98BB-B64484F60B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E14992-0E9A-49E4-8FA2-AD8ECC1B8A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4A01C8-D546-4861-97AC-E46A61F5E7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8849EE-144B-422F-B9DF-274A6F1F39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A87E99-8135-45EB-AFE4-0ABAFF12BC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77DF8C-A637-4143-9949-41BD341203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70A22E-13EE-46BF-8480-33E6429D8A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42E4AE-D609-4614-93B3-01941CCED4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0DE0CA-9720-435E-8F42-C48C12727B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905223-04EC-4990-83D0-12075246D1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F71D69-1103-4EED-8761-231BE6D127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596A50-05DA-4433-B961-487637AF6BB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9547D-B2CE-4A28-B454-3F710BB60A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9A1D6-1618-4408-99A9-A906297BDB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4C5FC-A6C9-4606-901C-58F34D3424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2151D-C98F-48BD-BFA9-29DF9EF708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88257-4E5F-4477-89EB-B7695A5EA7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C2D6A8-9E7B-4021-A5D1-E97F115722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E0116-2A01-4720-9DE4-DADD2C18F8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5F4E9-B2CF-4E18-9C37-3D5914F42C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40D45-CD00-458F-85CC-A03B808637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69E8A-BC01-4BF4-B4FF-2A5AD5F295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DAED9-362E-48C7-AC21-8CF14F4F09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15EF6-9074-4D3B-836D-8447D787F3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F96F6-AF2D-462C-92DF-2A72B6B0A1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502F1D0-CBA4-43A8-83AE-3F61FA55FCF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2FAC3D-9AA7-49CF-84ED-7E47869048B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C6BDE4-3EE2-4549-801E-FC698919BD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0FAD16-7756-4136-9C9F-71908B443F6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AEA83A-027B-47EF-AB8B-7A199E8BE05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9BD43D-79EB-40FD-827F-618562EEDF0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C37172-4C38-46DB-99B1-FF26637FDF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93EBDA-3502-472A-9B43-B648CB817F0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3E54F6-9772-4CAE-9900-3EE5A101DB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A534A8-5EF4-424D-A6B2-15988D253C9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16BFE9-04B5-4EF4-81B8-18EF539739D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00DE2EB-1AAA-4179-B040-7755AA3C154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F41B00-7DCA-4B37-A513-CAC64C9365E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C132D00-DC16-40A3-AC99-DE09051582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D7263F-87A8-4193-B83C-FE097ACC07E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F8E5393-CD21-4D66-97D7-F3C180D551E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75F3E3-96EC-4EA3-9082-3AB8DFBABCE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023BDD-14D5-4DCB-956D-4261AE36D0C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A82799D-D009-4023-A7DD-ABCC4043DDD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E3C6AE4-C352-4ED8-9B56-654D1FB4B4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64D3F9D-DE5A-4979-B471-B5B4493FAAC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87B82C-A827-48F8-83FF-D0B12E03F9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F1BEDF-7BE6-423E-A2C0-8A35CD2C20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10DFFCF-90ED-472B-A15D-FDF0A470E0A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892E5C0-59BF-4584-BC86-C593C40CAD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FAA135-0903-4EF4-BCE2-9B684B0A589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319D9DA-D394-4534-B126-DA038020DDA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50076C-2E85-4085-A1B3-C1ABF7DA121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67827-364C-493B-A538-8F88D797E8A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56A38-33D9-4158-8577-EE91BA315EC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5AA21A-226F-4F40-8399-C7C8CC96DE5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DE954B-AB7C-4B67-9FCC-6A5CAF34785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81477-4208-4BA0-8FB1-23A35524C5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CE3DC-88CC-4168-A869-BFCDEA81F5F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1D0D9-17BD-4692-8A83-B399CB8FDC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B489A-6821-4EAD-8BC0-7838EAB20B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DB8D8-97DF-457C-B7D9-9B541334CD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3B9E5-D291-4E43-8B47-D5CD2CE1EEE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80D3E1-0ACD-4339-B137-37A14F1FBA8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D78740-BCA3-4320-B0ED-540696ECFBF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7BBE364-7A4D-4157-A4CE-69BBD64A2A0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FA0EC29-530B-489F-864D-53C3284E954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031B84C-4FD4-4D09-B2D5-4EC986764D7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1F093F-EB94-4A8F-B747-6294F8AB830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51C6D0-B65B-4CFF-B596-412EF4842CB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E76F929-DE58-4160-8AFA-39701673D52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E89F49-2CF5-4C1B-B937-7B440C51CA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00AD9D-28E7-4106-AABD-9AB43F79094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2CA1E1-0938-4689-82A0-76E535C82B1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C4EC47-3A5C-4830-931F-369DE3411E4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245C22D-400D-429C-ACAF-D3E4E9807BD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2000102-94BD-415C-AE21-772B8045C3F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AF5A43A-B0EA-4056-9711-054E6448C57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99C26CC-5693-4A19-99CD-FF860476DD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62BD379-E4BF-4A12-AF7A-99D66F32A5C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636ED27-6B33-468C-8E85-238CF2E6410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C7C7C77-C025-4D05-AD04-9702E7BA5CF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F9988CF-372B-4AED-81C5-37614D618F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227EB-9D20-4069-82AB-129827555E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7675590-E827-4ACB-AC46-062E4477E7A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0FC6E6-8229-4603-8709-238A1B9415B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162E3F3-7358-444E-8F25-8705B663EA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D4CEC9E-97C4-4C9F-8AAD-D30D870BAC0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0EBF684-60D1-46B4-ABAE-A1EC3E1E5A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7E92D4F-4D73-4515-A559-2820DB5254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365C76A-1427-4D69-B5C3-B63828F7FAD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93D480-B03E-4B4C-AF8D-62F165E8E4D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388F3F-E37D-4EC6-A913-CF329B8D3F4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62A993-0A1C-450B-AFA9-0F8BF7D70C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BEB56F91-D200-40A3-857A-53943FD920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3" name="Picture 14" descr="c14l01_header"/>
          <p:cNvPicPr/>
          <p:nvPr/>
        </p:nvPicPr>
        <p:blipFill>
          <a:blip r:embed="rId2"/>
          <a:stretch/>
        </p:blipFill>
        <p:spPr>
          <a:xfrm>
            <a:off x="0" y="0"/>
            <a:ext cx="9144000" cy="13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14" descr="c14l01_header"/>
          <p:cNvPicPr/>
          <p:nvPr/>
        </p:nvPicPr>
        <p:blipFill>
          <a:blip r:embed="rId2"/>
          <a:stretch/>
        </p:blipFill>
        <p:spPr>
          <a:xfrm>
            <a:off x="0" y="0"/>
            <a:ext cx="9144000" cy="1387440"/>
          </a:xfrm>
          <a:prstGeom prst="rect">
            <a:avLst/>
          </a:prstGeom>
          <a:ln w="0">
            <a:noFill/>
          </a:ln>
        </p:spPr>
      </p:pic>
      <p:sp>
        <p:nvSpPr>
          <p:cNvPr id="36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3" name="PlaceHolder 2"/>
          <p:cNvSpPr>
            <a:spLocks noGrp="1"/>
          </p:cNvSpPr>
          <p:nvPr>
            <p:ph type="ftr" idx="19"/>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364" name="PlaceHolder 3"/>
          <p:cNvSpPr>
            <a:spLocks noGrp="1"/>
          </p:cNvSpPr>
          <p:nvPr>
            <p:ph type="sldNum" idx="20"/>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121E884A-6707-4346-9E7F-C8C940DBE1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14" descr="c14l01_header"/>
          <p:cNvPicPr/>
          <p:nvPr/>
        </p:nvPicPr>
        <p:blipFill>
          <a:blip r:embed="rId2"/>
          <a:stretch/>
        </p:blipFill>
        <p:spPr>
          <a:xfrm>
            <a:off x="0" y="0"/>
            <a:ext cx="9144000" cy="1387440"/>
          </a:xfrm>
          <a:prstGeom prst="rect">
            <a:avLst/>
          </a:prstGeom>
          <a:ln w="0">
            <a:noFill/>
          </a:ln>
        </p:spPr>
      </p:pic>
      <p:sp>
        <p:nvSpPr>
          <p:cNvPr id="40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3" name="PlaceHolder 2"/>
          <p:cNvSpPr>
            <a:spLocks noGrp="1"/>
          </p:cNvSpPr>
          <p:nvPr>
            <p:ph type="ftr" idx="21"/>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404" name="PlaceHolder 3"/>
          <p:cNvSpPr>
            <a:spLocks noGrp="1"/>
          </p:cNvSpPr>
          <p:nvPr>
            <p:ph type="sldNum" idx="22"/>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6CF7E73C-7F18-48FE-958B-3DE3FFBD97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4" descr="c14l01_header"/>
          <p:cNvPicPr/>
          <p:nvPr/>
        </p:nvPicPr>
        <p:blipFill>
          <a:blip r:embed="rId2"/>
          <a:stretch/>
        </p:blipFill>
        <p:spPr>
          <a:xfrm>
            <a:off x="0" y="0"/>
            <a:ext cx="9144000" cy="1387440"/>
          </a:xfrm>
          <a:prstGeom prst="rect">
            <a:avLst/>
          </a:prstGeom>
          <a:ln w="0">
            <a:noFill/>
          </a:ln>
        </p:spPr>
      </p:pic>
      <p:sp>
        <p:nvSpPr>
          <p:cNvPr id="44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3" name="PlaceHolder 2"/>
          <p:cNvSpPr>
            <a:spLocks noGrp="1"/>
          </p:cNvSpPr>
          <p:nvPr>
            <p:ph type="ftr" idx="23"/>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444" name="PlaceHolder 3"/>
          <p:cNvSpPr>
            <a:spLocks noGrp="1"/>
          </p:cNvSpPr>
          <p:nvPr>
            <p:ph type="sldNum" idx="24"/>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7E726C7C-C51F-4432-8342-B5A2FA006A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c14l01_header"/>
          <p:cNvPicPr/>
          <p:nvPr/>
        </p:nvPicPr>
        <p:blipFill>
          <a:blip r:embed="rId2"/>
          <a:stretch/>
        </p:blipFill>
        <p:spPr>
          <a:xfrm>
            <a:off x="0" y="0"/>
            <a:ext cx="9144000" cy="1387440"/>
          </a:xfrm>
          <a:prstGeom prst="rect">
            <a:avLst/>
          </a:prstGeom>
          <a:ln w="0">
            <a:noFill/>
          </a:ln>
        </p:spPr>
      </p:pic>
      <p:sp>
        <p:nvSpPr>
          <p:cNvPr id="41"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PlaceHolder 2"/>
          <p:cNvSpPr>
            <a:spLocks noGrp="1"/>
          </p:cNvSpPr>
          <p:nvPr>
            <p:ph type="ftr" idx="3"/>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43" name="PlaceHolder 3"/>
          <p:cNvSpPr>
            <a:spLocks noGrp="1"/>
          </p:cNvSpPr>
          <p:nvPr>
            <p:ph type="sldNum" idx="4"/>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33B30F2A-72B0-4864-B5AD-041F036997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4" descr="c14l01_header"/>
          <p:cNvPicPr/>
          <p:nvPr/>
        </p:nvPicPr>
        <p:blipFill>
          <a:blip r:embed="rId2"/>
          <a:stretch/>
        </p:blipFill>
        <p:spPr>
          <a:xfrm>
            <a:off x="0" y="0"/>
            <a:ext cx="9144000" cy="1387440"/>
          </a:xfrm>
          <a:prstGeom prst="rect">
            <a:avLst/>
          </a:prstGeom>
          <a:ln w="0">
            <a:noFill/>
          </a:ln>
        </p:spPr>
      </p:pic>
      <p:sp>
        <p:nvSpPr>
          <p:cNvPr id="81"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2"/>
          <p:cNvSpPr>
            <a:spLocks noGrp="1"/>
          </p:cNvSpPr>
          <p:nvPr>
            <p:ph type="ftr" idx="5"/>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83" name="PlaceHolder 3"/>
          <p:cNvSpPr>
            <a:spLocks noGrp="1"/>
          </p:cNvSpPr>
          <p:nvPr>
            <p:ph type="sldNum" idx="6"/>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25328413-D30E-4B1F-946B-1EF6313CBB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4" descr="c14l01_header"/>
          <p:cNvPicPr/>
          <p:nvPr/>
        </p:nvPicPr>
        <p:blipFill>
          <a:blip r:embed="rId2"/>
          <a:stretch/>
        </p:blipFill>
        <p:spPr>
          <a:xfrm>
            <a:off x="0" y="0"/>
            <a:ext cx="9144000" cy="1387440"/>
          </a:xfrm>
          <a:prstGeom prst="rect">
            <a:avLst/>
          </a:prstGeom>
          <a:ln w="0">
            <a:noFill/>
          </a:ln>
        </p:spPr>
      </p:pic>
      <p:sp>
        <p:nvSpPr>
          <p:cNvPr id="12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3" name="PlaceHolder 2"/>
          <p:cNvSpPr>
            <a:spLocks noGrp="1"/>
          </p:cNvSpPr>
          <p:nvPr>
            <p:ph type="ftr" idx="7"/>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124" name="PlaceHolder 3"/>
          <p:cNvSpPr>
            <a:spLocks noGrp="1"/>
          </p:cNvSpPr>
          <p:nvPr>
            <p:ph type="sldNum" idx="8"/>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6FAA80A3-E264-4870-B5BD-FBFBBA1258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4" descr="c14l01_header"/>
          <p:cNvPicPr/>
          <p:nvPr/>
        </p:nvPicPr>
        <p:blipFill>
          <a:blip r:embed="rId2"/>
          <a:stretch/>
        </p:blipFill>
        <p:spPr>
          <a:xfrm>
            <a:off x="0" y="0"/>
            <a:ext cx="9144000" cy="1387440"/>
          </a:xfrm>
          <a:prstGeom prst="rect">
            <a:avLst/>
          </a:prstGeom>
          <a:ln w="0">
            <a:noFill/>
          </a:ln>
        </p:spPr>
      </p:pic>
      <p:sp>
        <p:nvSpPr>
          <p:cNvPr id="16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3" name="PlaceHolder 2"/>
          <p:cNvSpPr>
            <a:spLocks noGrp="1"/>
          </p:cNvSpPr>
          <p:nvPr>
            <p:ph type="ftr" idx="9"/>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164" name="PlaceHolder 3"/>
          <p:cNvSpPr>
            <a:spLocks noGrp="1"/>
          </p:cNvSpPr>
          <p:nvPr>
            <p:ph type="sldNum" idx="10"/>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2DB8F53D-B369-4C44-AE8B-15E94518EA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4" descr="c14l01_header"/>
          <p:cNvPicPr/>
          <p:nvPr/>
        </p:nvPicPr>
        <p:blipFill>
          <a:blip r:embed="rId2"/>
          <a:stretch/>
        </p:blipFill>
        <p:spPr>
          <a:xfrm>
            <a:off x="0" y="0"/>
            <a:ext cx="9144000" cy="1387440"/>
          </a:xfrm>
          <a:prstGeom prst="rect">
            <a:avLst/>
          </a:prstGeom>
          <a:ln w="0">
            <a:noFill/>
          </a:ln>
        </p:spPr>
      </p:pic>
      <p:sp>
        <p:nvSpPr>
          <p:cNvPr id="20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 name="PlaceHolder 2"/>
          <p:cNvSpPr>
            <a:spLocks noGrp="1"/>
          </p:cNvSpPr>
          <p:nvPr>
            <p:ph type="ftr" idx="11"/>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204" name="PlaceHolder 3"/>
          <p:cNvSpPr>
            <a:spLocks noGrp="1"/>
          </p:cNvSpPr>
          <p:nvPr>
            <p:ph type="sldNum" idx="12"/>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F2168BA5-8CCC-43A7-9BFD-B335215D78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4" descr="c14l01_header"/>
          <p:cNvPicPr/>
          <p:nvPr/>
        </p:nvPicPr>
        <p:blipFill>
          <a:blip r:embed="rId2"/>
          <a:stretch/>
        </p:blipFill>
        <p:spPr>
          <a:xfrm>
            <a:off x="0" y="0"/>
            <a:ext cx="9144000" cy="1387440"/>
          </a:xfrm>
          <a:prstGeom prst="rect">
            <a:avLst/>
          </a:prstGeom>
          <a:ln w="0">
            <a:noFill/>
          </a:ln>
        </p:spPr>
      </p:pic>
      <p:sp>
        <p:nvSpPr>
          <p:cNvPr id="24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3" name="PlaceHolder 2"/>
          <p:cNvSpPr>
            <a:spLocks noGrp="1"/>
          </p:cNvSpPr>
          <p:nvPr>
            <p:ph type="ftr" idx="13"/>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244" name="PlaceHolder 3"/>
          <p:cNvSpPr>
            <a:spLocks noGrp="1"/>
          </p:cNvSpPr>
          <p:nvPr>
            <p:ph type="sldNum" idx="14"/>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48272D15-59CF-4730-A9C5-6B7ECCE307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14" descr="c14l01_header"/>
          <p:cNvPicPr/>
          <p:nvPr/>
        </p:nvPicPr>
        <p:blipFill>
          <a:blip r:embed="rId2"/>
          <a:stretch/>
        </p:blipFill>
        <p:spPr>
          <a:xfrm>
            <a:off x="0" y="0"/>
            <a:ext cx="9144000" cy="1387440"/>
          </a:xfrm>
          <a:prstGeom prst="rect">
            <a:avLst/>
          </a:prstGeom>
          <a:ln w="0">
            <a:noFill/>
          </a:ln>
        </p:spPr>
      </p:pic>
      <p:sp>
        <p:nvSpPr>
          <p:cNvPr id="28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3" name="PlaceHolder 2"/>
          <p:cNvSpPr>
            <a:spLocks noGrp="1"/>
          </p:cNvSpPr>
          <p:nvPr>
            <p:ph type="ftr" idx="15"/>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284" name="PlaceHolder 3"/>
          <p:cNvSpPr>
            <a:spLocks noGrp="1"/>
          </p:cNvSpPr>
          <p:nvPr>
            <p:ph type="sldNum" idx="16"/>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A0E5019F-E4FA-468E-B241-798AC6399F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14" descr="c14l01_header"/>
          <p:cNvPicPr/>
          <p:nvPr/>
        </p:nvPicPr>
        <p:blipFill>
          <a:blip r:embed="rId2"/>
          <a:stretch/>
        </p:blipFill>
        <p:spPr>
          <a:xfrm>
            <a:off x="0" y="0"/>
            <a:ext cx="9144000" cy="1387440"/>
          </a:xfrm>
          <a:prstGeom prst="rect">
            <a:avLst/>
          </a:prstGeom>
          <a:ln w="0">
            <a:noFill/>
          </a:ln>
        </p:spPr>
      </p:pic>
      <p:sp>
        <p:nvSpPr>
          <p:cNvPr id="322"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3" name="PlaceHolder 2"/>
          <p:cNvSpPr>
            <a:spLocks noGrp="1"/>
          </p:cNvSpPr>
          <p:nvPr>
            <p:ph type="ftr" idx="17"/>
          </p:nvPr>
        </p:nvSpPr>
        <p:spPr>
          <a:xfrm>
            <a:off x="228240" y="6248520"/>
            <a:ext cx="6172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 Vista Higher Learning. All rights reserved.</a:t>
            </a:r>
            <a:endParaRPr b="0" lang="en-US" sz="1000" spc="-1" strike="noStrike">
              <a:solidFill>
                <a:srgbClr val="000000"/>
              </a:solidFill>
              <a:latin typeface="Times New Roman"/>
            </a:endParaRPr>
          </a:p>
        </p:txBody>
      </p:sp>
      <p:sp>
        <p:nvSpPr>
          <p:cNvPr id="324" name="PlaceHolder 3"/>
          <p:cNvSpPr>
            <a:spLocks noGrp="1"/>
          </p:cNvSpPr>
          <p:nvPr>
            <p:ph type="sldNum" idx="18"/>
          </p:nvPr>
        </p:nvSpPr>
        <p:spPr>
          <a:xfrm>
            <a:off x="6553080" y="6248520"/>
            <a:ext cx="2362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1-</a:t>
            </a:r>
            <a:fld id="{9852EE38-F2E2-4E61-8D83-9FBF8C4C59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489"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A4488966-B2CF-4804-945E-66EF1CAC6FEC}"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0" name="PlaceHolder 1"/>
          <p:cNvSpPr>
            <a:spLocks noGrp="1"/>
          </p:cNvSpPr>
          <p:nvPr>
            <p:ph/>
          </p:nvPr>
        </p:nvSpPr>
        <p:spPr>
          <a:xfrm>
            <a:off x="682560" y="1622520"/>
            <a:ext cx="7826400" cy="4092480"/>
          </a:xfrm>
          <a:prstGeom prst="rect">
            <a:avLst/>
          </a:prstGeom>
          <a:noFill/>
          <a:ln w="0">
            <a:noFill/>
          </a:ln>
        </p:spPr>
        <p:txBody>
          <a:bodyPr anchor="t">
            <a:normAutofit/>
          </a:bodyPr>
          <a:p>
            <a:pPr indent="17146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t>
            </a:r>
            <a:r>
              <a:rPr b="1" lang="en-US" sz="2800" spc="-1" strike="noStrike">
                <a:solidFill>
                  <a:srgbClr val="000000"/>
                </a:solidFill>
                <a:latin typeface="Arial"/>
              </a:rPr>
              <a:t>Lección 13</a:t>
            </a:r>
            <a:r>
              <a:rPr b="0" lang="en-US" sz="2800" spc="-1" strike="noStrike">
                <a:solidFill>
                  <a:srgbClr val="000000"/>
                </a:solidFill>
                <a:latin typeface="Arial"/>
              </a:rPr>
              <a:t>, you learned that the subjunctive is used in adverbial clauses after certain conjunctions. You will now learn how the subjunctive can be used in adjective clauses to express that the existence of someone or something is uncertain or indefinite.</a:t>
            </a:r>
            <a:endParaRPr b="0" lang="en-US" sz="2800" spc="-1" strike="noStrike">
              <a:solidFill>
                <a:srgbClr val="000000"/>
              </a:solidFill>
              <a:latin typeface="Arial"/>
            </a:endParaRPr>
          </a:p>
        </p:txBody>
      </p:sp>
      <p:pic>
        <p:nvPicPr>
          <p:cNvPr id="491" name="Picture 3" descr="anteTodo"/>
          <p:cNvPicPr/>
          <p:nvPr/>
        </p:nvPicPr>
        <p:blipFill>
          <a:blip r:embed="rId1"/>
          <a:stretch/>
        </p:blipFill>
        <p:spPr>
          <a:xfrm>
            <a:off x="736560" y="1538280"/>
            <a:ext cx="1676520" cy="563400"/>
          </a:xfrm>
          <a:prstGeom prst="rect">
            <a:avLst/>
          </a:prstGeom>
          <a:ln w="0">
            <a:noFill/>
          </a:ln>
        </p:spPr>
      </p:pic>
      <p:pic>
        <p:nvPicPr>
          <p:cNvPr id="492" name="Picture 16" descr="c14l01_p486_01"/>
          <p:cNvPicPr/>
          <p:nvPr/>
        </p:nvPicPr>
        <p:blipFill>
          <a:blip r:embed="rId2"/>
          <a:stretch/>
        </p:blipFill>
        <p:spPr>
          <a:xfrm>
            <a:off x="684360" y="4272120"/>
            <a:ext cx="7773840" cy="220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494"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9D6A6839-D425-4CD7-8D55-5C1C0DDA1CCA}"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5" name="PlaceHolder 1"/>
          <p:cNvSpPr>
            <a:spLocks noGrp="1"/>
          </p:cNvSpPr>
          <p:nvPr>
            <p:ph/>
          </p:nvPr>
        </p:nvSpPr>
        <p:spPr>
          <a:xfrm>
            <a:off x="685440" y="1600200"/>
            <a:ext cx="782316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junctive is used in an adjective </a:t>
            </a:r>
            <a:br>
              <a:rPr sz="2800"/>
            </a:br>
            <a:r>
              <a:rPr b="0" lang="en-US" sz="2800" spc="-1" strike="noStrike">
                <a:solidFill>
                  <a:srgbClr val="000000"/>
                </a:solidFill>
                <a:latin typeface="Arial"/>
              </a:rPr>
              <a:t>(or subordinate) clause that refers to a person, place, thing, or idea that either does not exist or whose existence is uncertain or indefinite. There are differences in meaning between statements using the indicative and those using the subjunc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1"/>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497" name="Slide Number Placeholder 2"/>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24572A30-2C2E-4B18-8134-8B110E61E6B0}"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98" name="Picture 3" descr="c14l01_p486_02"/>
          <p:cNvPicPr/>
          <p:nvPr/>
        </p:nvPicPr>
        <p:blipFill>
          <a:blip r:embed="rId1"/>
          <a:stretch/>
        </p:blipFill>
        <p:spPr>
          <a:xfrm>
            <a:off x="787320" y="1600200"/>
            <a:ext cx="7721640" cy="41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00"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1AFD05F7-44B8-4EC0-878B-1A7C0A001B21}"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1"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ención!</a:t>
            </a:r>
            <a:r>
              <a:rPr b="0" lang="en-US" sz="2800" spc="-1" strike="noStrike">
                <a:solidFill>
                  <a:srgbClr val="000000"/>
                </a:solidFill>
                <a:latin typeface="Arial"/>
              </a:rPr>
              <a:t> Adjective clauses are subordinate clauses that modify a noun or pronoun in the main clause of a sentence. That noun or pronoun is called the </a:t>
            </a:r>
            <a:r>
              <a:rPr b="0" i="1" lang="en-US" sz="2800" spc="-1" strike="noStrike">
                <a:solidFill>
                  <a:srgbClr val="000000"/>
                </a:solidFill>
                <a:latin typeface="Arial"/>
              </a:rPr>
              <a:t>anteceden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03"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55857EDD-464B-4E4F-A294-FE84CC11CC3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adjective clause refers to a person, place, thing, or idea that is clearly known, certain, or definite, the indicative is used.</a:t>
            </a:r>
            <a:endParaRPr b="0" lang="en-US" sz="2800" spc="-1" strike="noStrike">
              <a:solidFill>
                <a:srgbClr val="000000"/>
              </a:solidFill>
              <a:latin typeface="Arial"/>
            </a:endParaRPr>
          </a:p>
        </p:txBody>
      </p:sp>
      <p:pic>
        <p:nvPicPr>
          <p:cNvPr id="505" name="Picture 3" descr="c14l01_p486_03"/>
          <p:cNvPicPr/>
          <p:nvPr/>
        </p:nvPicPr>
        <p:blipFill>
          <a:blip r:embed="rId1"/>
          <a:stretch/>
        </p:blipFill>
        <p:spPr>
          <a:xfrm>
            <a:off x="914400" y="3141720"/>
            <a:ext cx="7315200" cy="262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07"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7077CE7F-0456-4577-A60B-3D53DD50428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sonal </a:t>
            </a:r>
            <a:r>
              <a:rPr b="1" lang="en-US" sz="2800" spc="-1" strike="noStrike">
                <a:solidFill>
                  <a:srgbClr val="000000"/>
                </a:solidFill>
                <a:latin typeface="Arial"/>
              </a:rPr>
              <a:t>a </a:t>
            </a:r>
            <a:r>
              <a:rPr b="0" lang="en-US" sz="2800" spc="-1" strike="noStrike">
                <a:solidFill>
                  <a:srgbClr val="000000"/>
                </a:solidFill>
                <a:latin typeface="Arial"/>
              </a:rPr>
              <a:t>is not used with direct objects that are hypothetical people. However, as you learned in </a:t>
            </a:r>
            <a:r>
              <a:rPr b="1" lang="en-US" sz="2800" spc="-1" strike="noStrike">
                <a:solidFill>
                  <a:srgbClr val="000000"/>
                </a:solidFill>
                <a:latin typeface="Arial"/>
              </a:rPr>
              <a:t>Lección 7</a:t>
            </a:r>
            <a:r>
              <a:rPr b="0" lang="en-US" sz="2800" spc="-1" strike="noStrike">
                <a:solidFill>
                  <a:srgbClr val="000000"/>
                </a:solidFill>
                <a:latin typeface="Arial"/>
              </a:rPr>
              <a:t>, </a:t>
            </a:r>
            <a:r>
              <a:rPr b="1" lang="en-US" sz="2800" spc="-1" strike="noStrike">
                <a:solidFill>
                  <a:srgbClr val="000000"/>
                </a:solidFill>
                <a:latin typeface="Arial"/>
              </a:rPr>
              <a:t>alguien </a:t>
            </a:r>
            <a:r>
              <a:rPr b="0" lang="en-US" sz="2800" spc="-1" strike="noStrike">
                <a:solidFill>
                  <a:srgbClr val="000000"/>
                </a:solidFill>
                <a:latin typeface="Arial"/>
              </a:rPr>
              <a:t>and </a:t>
            </a:r>
            <a:r>
              <a:rPr b="1" lang="en-US" sz="2800" spc="-1" strike="noStrike">
                <a:solidFill>
                  <a:srgbClr val="000000"/>
                </a:solidFill>
                <a:latin typeface="Arial"/>
              </a:rPr>
              <a:t>nadie </a:t>
            </a:r>
            <a:r>
              <a:rPr b="0" lang="en-US" sz="2800" spc="-1" strike="noStrike">
                <a:solidFill>
                  <a:srgbClr val="000000"/>
                </a:solidFill>
                <a:latin typeface="Arial"/>
              </a:rPr>
              <a:t>are always preceded by the personal </a:t>
            </a:r>
            <a:r>
              <a:rPr b="1" lang="en-US" sz="2800" spc="-1" strike="noStrike">
                <a:solidFill>
                  <a:srgbClr val="000000"/>
                </a:solidFill>
                <a:latin typeface="Arial"/>
              </a:rPr>
              <a:t>a </a:t>
            </a:r>
            <a:r>
              <a:rPr b="0" lang="en-US" sz="2800" spc="-1" strike="noStrike">
                <a:solidFill>
                  <a:srgbClr val="000000"/>
                </a:solidFill>
                <a:latin typeface="Arial"/>
              </a:rPr>
              <a:t>when they function as direct objects.</a:t>
            </a:r>
            <a:endParaRPr b="0" lang="en-US" sz="2800" spc="-1" strike="noStrike">
              <a:solidFill>
                <a:srgbClr val="000000"/>
              </a:solidFill>
              <a:latin typeface="Arial"/>
            </a:endParaRPr>
          </a:p>
        </p:txBody>
      </p:sp>
      <p:pic>
        <p:nvPicPr>
          <p:cNvPr id="509" name="Picture 3" descr="c14l01_p487_01"/>
          <p:cNvPicPr/>
          <p:nvPr/>
        </p:nvPicPr>
        <p:blipFill>
          <a:blip r:embed="rId1"/>
          <a:stretch/>
        </p:blipFill>
        <p:spPr>
          <a:xfrm>
            <a:off x="1060560" y="3821040"/>
            <a:ext cx="7315200" cy="23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11"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F06E2F70-D2A8-42E0-9D22-E677FF788BC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2"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junctive is commonly used in questions with adjective clauses when the speaker is trying to find out information about which he or she is uncertain. However, if the person who responds to the question knows the information, the indicative is used. </a:t>
            </a:r>
            <a:endParaRPr b="0" lang="en-US" sz="2800" spc="-1" strike="noStrike">
              <a:solidFill>
                <a:srgbClr val="000000"/>
              </a:solidFill>
              <a:latin typeface="Arial"/>
            </a:endParaRPr>
          </a:p>
        </p:txBody>
      </p:sp>
      <p:pic>
        <p:nvPicPr>
          <p:cNvPr id="513" name="Picture 3" descr="c14l01_p487_02"/>
          <p:cNvPicPr/>
          <p:nvPr/>
        </p:nvPicPr>
        <p:blipFill>
          <a:blip r:embed="rId1"/>
          <a:stretch/>
        </p:blipFill>
        <p:spPr>
          <a:xfrm>
            <a:off x="914400" y="4457880"/>
            <a:ext cx="731520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228600" y="624852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515" name="Slide Number Placeholder 4"/>
          <p:cNvSpPr/>
          <p:nvPr/>
        </p:nvSpPr>
        <p:spPr>
          <a:xfrm>
            <a:off x="6553080" y="6248520"/>
            <a:ext cx="23623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a:t>
            </a:r>
            <a:fld id="{1C3F080C-204F-4FC6-AC81-9EBD1AB5FF28}"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16" name="Picture 4" descr="c14l01_p487_04"/>
          <p:cNvPicPr/>
          <p:nvPr/>
        </p:nvPicPr>
        <p:blipFill>
          <a:blip r:embed="rId1"/>
          <a:stretch/>
        </p:blipFill>
        <p:spPr>
          <a:xfrm>
            <a:off x="2400480" y="4137120"/>
            <a:ext cx="4343400" cy="2340000"/>
          </a:xfrm>
          <a:prstGeom prst="rect">
            <a:avLst/>
          </a:prstGeom>
          <a:ln w="0">
            <a:noFill/>
          </a:ln>
        </p:spPr>
      </p:pic>
      <p:sp>
        <p:nvSpPr>
          <p:cNvPr id="517" name="PlaceHolder 1"/>
          <p:cNvSpPr>
            <a:spLocks noGrp="1"/>
          </p:cNvSpPr>
          <p:nvPr>
            <p:ph/>
          </p:nvPr>
        </p:nvSpPr>
        <p:spPr>
          <a:xfrm>
            <a:off x="685800" y="1600200"/>
            <a:ext cx="8074080" cy="4114800"/>
          </a:xfrm>
          <a:prstGeom prst="rect">
            <a:avLst/>
          </a:prstGeom>
          <a:noFill/>
          <a:ln w="0">
            <a:noFill/>
          </a:ln>
        </p:spPr>
        <p:txBody>
          <a:bodyPr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ención! </a:t>
            </a:r>
            <a:r>
              <a:rPr b="0" lang="en-US" sz="2400" spc="-1" strike="noStrike">
                <a:solidFill>
                  <a:srgbClr val="000000"/>
                </a:solidFill>
                <a:latin typeface="Arial"/>
              </a:rPr>
              <a:t>Here are some verbs which are commonly followed by adjective clauses in the subjunctive:</a:t>
            </a:r>
            <a:endParaRPr b="0" lang="en-US" sz="2400" spc="-1" strike="noStrike">
              <a:solidFill>
                <a:srgbClr val="000000"/>
              </a:solidFill>
              <a:latin typeface="Arial"/>
            </a:endParaRPr>
          </a:p>
        </p:txBody>
      </p:sp>
      <p:pic>
        <p:nvPicPr>
          <p:cNvPr id="518" name="Picture 3" descr="c14l01_p487_03"/>
          <p:cNvPicPr/>
          <p:nvPr/>
        </p:nvPicPr>
        <p:blipFill>
          <a:blip r:embed="rId2"/>
          <a:stretch/>
        </p:blipFill>
        <p:spPr>
          <a:xfrm>
            <a:off x="1521000" y="2541600"/>
            <a:ext cx="6100560" cy="154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2" descr="intentalo"/>
          <p:cNvPicPr/>
          <p:nvPr/>
        </p:nvPicPr>
        <p:blipFill>
          <a:blip r:embed="rId1"/>
          <a:stretch/>
        </p:blipFill>
        <p:spPr>
          <a:xfrm>
            <a:off x="455760" y="1600200"/>
            <a:ext cx="2438280" cy="627120"/>
          </a:xfrm>
          <a:prstGeom prst="rect">
            <a:avLst/>
          </a:prstGeom>
          <a:ln w="0">
            <a:noFill/>
          </a:ln>
        </p:spPr>
      </p:pic>
      <p:graphicFrame>
        <p:nvGraphicFramePr>
          <p:cNvPr id="520" name=""/>
          <p:cNvGraphicFramePr/>
          <p:nvPr/>
        </p:nvGraphicFramePr>
        <p:xfrm>
          <a:off x="442800" y="2313000"/>
          <a:ext cx="8258400" cy="4170240"/>
        </p:xfrm>
        <a:graphic>
          <a:graphicData uri="http://schemas.openxmlformats.org/drawingml/2006/table">
            <a:tbl>
              <a:tblPr/>
              <a:tblGrid>
                <a:gridCol w="8258400"/>
              </a:tblGrid>
              <a:tr h="1097640">
                <a:tc>
                  <a:txBody>
                    <a:bodyPr lIns="182880" rIns="182880" tIns="182880" bIns="1828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coge entre el subjuntivo y el indicativo para completar cada oración.</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3087720">
                <a:tc>
                  <a:txBody>
                    <a:bodyPr lIns="182880" rIns="182880" tIns="182880" bIns="182880" anchor="t">
                      <a:noAutofit/>
                    </a:bodyPr>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cesito una persona que _____ (puede/pueda) cantar bien.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Buscamos a alguien que _____ (tiene/tenga) paciencia.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ay restaurantes aquí que _____ (sirven/sirvan) comida japonesa?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engo una amiga que _____ (saca/saque) fotografías muy bonitas.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Hay una carnicería que _____ (está/esté) cerca de aquí.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No vemos ningún apartamento que nos _____  (interesa/interese). </a:t>
                      </a:r>
                      <a:endParaRPr b="0" lang="en-US" sz="1800" spc="-1" strike="noStrike">
                        <a:solidFill>
                          <a:srgbClr val="000000"/>
                        </a:solidFill>
                        <a:latin typeface="Arial"/>
                      </a:endParaRPr>
                    </a:p>
                    <a:p>
                      <a:pPr marL="231840" indent="-231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onozco a un estudiante que _____ (come/coma) hamburguesas todos </a:t>
                      </a:r>
                      <a:br>
                        <a:rPr sz="1800"/>
                      </a:br>
                      <a:r>
                        <a:rPr b="0" lang="en-US" sz="1800" spc="-1" strike="noStrike">
                          <a:solidFill>
                            <a:srgbClr val="000000"/>
                          </a:solidFill>
                          <a:latin typeface="Arial"/>
                        </a:rPr>
                        <a:t>los días. </a:t>
                      </a:r>
                      <a:endParaRPr b="0" lang="en-US" sz="1800" spc="-1" strike="noStrike">
                        <a:solidFill>
                          <a:srgbClr val="000000"/>
                        </a:solidFill>
                        <a:latin typeface="Arial"/>
                      </a:endParaRPr>
                    </a:p>
                    <a:p>
                      <a:pPr marL="231840" indent="-231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ay alguien que _____ (dice/diga) la verdad?</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521" name="Text Box 45"/>
          <p:cNvSpPr/>
          <p:nvPr/>
        </p:nvSpPr>
        <p:spPr>
          <a:xfrm>
            <a:off x="3503520" y="3471840"/>
            <a:ext cx="104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ff"/>
                </a:solidFill>
                <a:latin typeface="Comic Sans MS"/>
              </a:rPr>
              <a:t>pue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WallesFamily</cp:lastModifiedBy>
  <dcterms:modified xsi:type="dcterms:W3CDTF">2010-07-10T17:44:14Z</dcterms:modified>
  <cp:revision>79</cp:revision>
  <dc:subject/>
  <dc:title>PowerPoint Presentation</dc:title>
</cp:coreProperties>
</file>